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43E-9BAD-45FC-867E-5D74ADE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256-8308-4A29-9B7E-C263F55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F64-7DB3-4B84-AA20-AEBBACC9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0A6-56F2-42E0-9792-BDF4DF64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21E9-C92A-4804-A4EB-996E7C74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4FEB-368B-42A6-A7B9-AA8D93D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1ACE-07BB-4B10-8C5C-AD77C3B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3616-B08F-49DC-83E9-5915D951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3E9-1C2F-4DB8-A605-B95CD8AA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6787-69B7-4B4F-AB87-B1EAE8E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369-8E15-4868-AB73-FA428C9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31D-00D1-49E0-B0CE-7CB062A9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6723-B7B4-4FB5-AECC-513500C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C7C-2FF6-4820-A727-249AA18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CAB-29D7-4E8F-841C-0CA6B44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F72-FDAB-4D48-8D35-06A4F8A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BA61-248E-4AF7-9F1B-E7A3C0F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CD2-F9B4-4B08-965C-8C159D17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CD9-7AEE-4F25-9050-33FFE94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108-A22F-4D6C-8D13-DD92204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4AA-B585-4ADC-89F2-919B4297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E6F-2619-4E6C-8E03-9F904DB9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776-3E3F-4945-81D8-1255D7F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E5D-EDAD-4EF5-8FF8-5FF5DE7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391-3826-4F64-B261-790570328E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12DA-C90B-49A7-BF62-08CD24ADF3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0"/>
            <a:ext cx="6840720" cy="79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 suspiro del mo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del Rey Chico que perdió a Granad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año de cuatroci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venta y dos cor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rey Chico de Gran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dió el reino que ten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ióse de la ciu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 lunes a medio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rcado de caball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lor de la mor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madre lleva cons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la tiene compañía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ese Genil a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l rey Chico se sal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estribos se han moj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ran de gran val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3640" y="0"/>
            <a:ext cx="4364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mostrar más su d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el corazón 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aquesa áspera Alpujar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su jornada y v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una cuesta muy al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ranada se parecía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vió a mirar a Gran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Granada la famo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 consuelo y alegrí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to Albaic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i rica Alcaicer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hambra y Alij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ezquita de val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mis baños, huertas y rí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de olgar me solía!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0"/>
            <a:ext cx="56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¿quién os ha de mí apa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jamás yo os vería?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hora te estoy mira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lejos, ciudad m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s presto no te veré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es ya de ti me part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rueda de la fortu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co es quien en ti f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ayer era rey famo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hoy no tengo cosa mía!”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empre el triste coraz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aba su cobar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estas palabras dic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desmayo se ca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ba su madre del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189000"/>
            <a:ext cx="4253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otra caballe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endo la gente pa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eina se de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causa pregunt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que ella no lo sab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óle un moro vie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honesta cortes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u hijo mira a Gr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pena le afligí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do había l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 es que como muj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e con grande agon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que como caball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estado no defendía”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20:44Z</dcterms:created>
  <dc:creator> </dc:creator>
  <dc:description/>
  <dc:language>en-US</dc:language>
  <cp:lastModifiedBy>-</cp:lastModifiedBy>
  <dcterms:modified xsi:type="dcterms:W3CDTF">2008-10-06T23:30:30Z</dcterms:modified>
  <cp:revision>4</cp:revision>
  <dc:subject/>
  <dc:title>Diapositiva 1</dc:title>
</cp:coreProperties>
</file>